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A300-1C74-413A-AD72-978E5BC0F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3394-032D-40D4-AC6B-38FA7CEBC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DE54-EE94-4B91-8B26-C26AB25B7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EF4F-E84D-4FCD-B073-C318CDC74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FFC3-66F7-4150-AEBD-59C396594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D23D-3605-462B-9517-C0F51C104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09BB-143D-4748-B09C-3229A0E46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215D-8049-4567-91B2-15AC5A3ED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D6E0-C8AC-4DC9-A8E4-AFE333A26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239C-297C-4E39-94E5-7568313BF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C177-FFA3-4C8F-A9DB-B25C39C19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F51D-ABEA-459B-98E7-CB3A606D3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E00-3E21-463D-A82B-15FF7DAB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2ED-EB4A-47AA-8989-85011172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969-7E9A-4763-9434-D8AB8DF8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A2A-97E9-4619-9524-A17DF7F0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3FC-4A60-453A-86AE-79FF4D1F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C9F-6992-4783-BD4C-8F45F041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063-7F2C-4BBF-8FD4-45A2827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AFF-137C-482A-9AEE-45FC2C9E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F39-52ED-48A5-BF65-259826DF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799-4B6A-43FD-AFEB-E56C722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20E-3328-4E78-8518-B32C6E6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DEF-47F4-41DC-84B2-C8278A95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D986-280D-4757-B36B-2B20887B76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Alex\Dropbox\Gig\Homeless\fami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lex\Dropbox\Gig\Homeless\tvp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Alex\Dropbox\Gig\Homeless\Untitle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Alex\Dropbox\Gig\Homeless\2guy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lex\Dropbox\Gig\Homeless\homeless guy t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Alex\Dropbox\Gig\Homeless\homeless guy tv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Alex\Dropbox\Gig\Homeless\homeless gu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Alex\Dropbox\Gig\Homeless\homeless guy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lex\Dropbox\Gig\Homeless\man in car.jp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Alex\Dropbox\Gig\Homeless\tedd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Alex\Dropbox\Gig\Homeless\TV me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08:11:43Z</dcterms:created>
  <dc:creator>Alex</dc:creator>
  <dc:description/>
  <dc:language>en-US</dc:language>
  <cp:lastModifiedBy>jake</cp:lastModifiedBy>
  <dcterms:modified xsi:type="dcterms:W3CDTF">2013-10-07T01:34:09Z</dcterms:modified>
  <cp:revision>1</cp:revision>
  <dc:subject/>
  <dc:title>Slide 1</dc:title>
</cp:coreProperties>
</file>