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CF1E-52AD-4E78-9BA8-FC1563691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63C7-45A3-4A02-8720-3062FEF00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81BA-59AD-4B13-A82C-2A340BEC2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7FF0-C7C3-4A11-B2B4-4447DB4AB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61B2-9AE1-464B-A797-D06D7B9F2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EEA7-0911-4491-A32E-0AAE12AE5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CF40-9D9D-48B9-8CE0-548EB9894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BA25-A575-45D8-A5BD-E6CCF3B8A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87F1-9690-43A4-B892-BB3F4027C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E0CB-B86E-45AA-9D60-F038668F2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232A-E1CA-4CA6-876C-CA03AE5B0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12A0-9D7F-45AC-AF7F-3A2DF63FC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463-3C19-4EA9-B2D5-508365C5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724-0E32-4B5A-B9CC-1135B59C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AA8-530D-4C70-B221-F17A33F8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CDE-0A0F-4F0D-999F-B14670AA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FDC-C223-4413-9456-0C100EEA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CB9-5609-40F3-821F-2ED20C0C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D40-3276-4899-9FEB-F5B0EDAB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059-B257-4EA9-AFEF-C73592DC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FFA-45AF-4156-874E-B205BEB4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043-6372-4AC1-940C-B8A761B5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1A1-F234-469D-B41C-DD876A32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C2B-4E86-4DA0-B185-25C8219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B232-43D9-42BB-9F2C-9C12829EFB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Alex\Dropbox\Gig\Homeless\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Alex\Dropbox\Gig\Homeless\tvp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Alex\Dropbox\Gig\Homeless\Untitle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Alex\Dropbox\Gig\Homeless\2guy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Alex\Dropbox\Gig\Homeless\homeless guy t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Alex\Dropbox\Gig\Homeless\homeless guy tv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lex\Dropbox\Gig\Homeless\homeless gu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Alex\Dropbox\Gig\Homeless\homeless guy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lex\Dropbox\Gig\Homeless\man in car.jp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Alex\Dropbox\Gig\Homeless\tedd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Alex\Dropbox\Gig\Homeless\TV me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08:11:43Z</dcterms:created>
  <dc:creator>Alex</dc:creator>
  <dc:description/>
  <dc:language>en-US</dc:language>
  <cp:lastModifiedBy>jake</cp:lastModifiedBy>
  <dcterms:modified xsi:type="dcterms:W3CDTF">2013-10-07T01:34:09Z</dcterms:modified>
  <cp:revision>1</cp:revision>
  <dc:subject/>
  <dc:title>Slide 1</dc:title>
</cp:coreProperties>
</file>