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E65-5956-4DC9-9136-14B8B2C5F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F893-9CBF-4D24-8FF0-95CCFD671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700-5100-4C9B-8809-CF504A050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E728-B301-4176-800F-6C0FB04F3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86C-C2F0-4828-B2DE-8DB4E8AE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309-7DF9-41F2-B18C-71E7277C4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55F-AF3F-459A-B587-49BE99A4D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B3A-16AD-4D72-A71D-3DE372636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9E6C-F007-4785-AA84-80F2C3A7E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01DD-7010-45C7-A989-9F971E4A7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0B6-57A8-48D0-A192-5B741A339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FB4-95DB-4187-9147-49EC8EFA8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680-2DAA-4F97-B96B-73BE9F3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563-A5AA-4F1F-BBF2-6391732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59C-80E9-4CA7-A5C2-C3D6B31A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357-2F18-4DE1-A562-6C8653DB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AD7-51B4-44D4-8FF2-4EBDD17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589-3619-417D-99D8-FE57B88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9D6-53DE-469B-8BDB-311C9C7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861-9139-4175-BB7C-0BBD2BE0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452-A208-4F99-928D-731AD6DD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247-6AC4-4857-9E8D-31CC25C9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6B7-8E62-45A0-A2AA-B87E451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A80-C01C-4C31-A082-59AA2A4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F478-FF41-4200-AF39-B31F1D707C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lex\Dropbox\Gig\Homeless\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lex\Dropbox\Gig\Homeless\tvp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Alex\Dropbox\Gig\Homeless\Untitl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Alex\Dropbox\Gig\Homeless\2guy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lex\Dropbox\Gig\Homeless\homeless guy 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ropbox\Gig\Homeless\homeless guy tv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lex\Dropbox\Gig\Homeless\homeless gu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lex\Dropbox\Gig\Homeless\homeless guy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ex\Dropbox\Gig\Homeless\man in car.jp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lex\Dropbox\Gig\Homeless\ted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Alex\Dropbox\Gig\Homeless\TV me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8:11:43Z</dcterms:created>
  <dc:creator>Alex</dc:creator>
  <dc:description/>
  <dc:language>en-US</dc:language>
  <cp:lastModifiedBy>jake</cp:lastModifiedBy>
  <dcterms:modified xsi:type="dcterms:W3CDTF">2013-10-07T01:34:09Z</dcterms:modified>
  <cp:revision>1</cp:revision>
  <dc:subject/>
  <dc:title>Slide 1</dc:title>
</cp:coreProperties>
</file>