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576E-CF12-4019-BB34-26C9706EB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1588-8ED5-4F5D-A49F-4A653611F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686-33C1-4314-B04A-A17B6A5E5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B2F5-20EA-4F96-BB50-9851166CF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5393-3489-4B3D-B15C-D1CA8C90D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8D42-64E2-4646-8E77-1B813CAED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3EB-ED26-4F13-8D1C-944C842BC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D98-EEE7-481A-A466-D9D3B7344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2BEB-C3F3-4AF4-B3B9-37F8DD7A4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8562-47C1-46C8-ADF7-80721F66A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15A-63A6-42E3-8732-707171C52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5666-8BFF-47AD-BC44-6C52259CE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B51-F859-45D6-AC0C-BDF83CAE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F9C-E832-4B6C-AD88-922ECD9F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3AE-5FD9-4D2E-8D89-6344E699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50F-F2CD-4B65-941E-8A1625B9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46D-D96F-4666-812F-C79D2EC1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800-B163-42DD-9DEE-C224C80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B5C-A362-4587-9D28-9959DD1F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888-DD80-495E-9663-BFCFCC1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4DE-434E-4FF3-B646-7B3B804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665-878D-4E41-8476-AC0756B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20F-32E3-4F3A-ADB0-3B712E5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090-9C23-497C-9A5B-5DAA350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476-0A3D-4394-B48C-EFC16A65DC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Alex\Dropbox\Gig\Homeless\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lex\Dropbox\Gig\Homeless\tvp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Alex\Dropbox\Gig\Homeless\Untitle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Alex\Dropbox\Gig\Homeless\2guy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lex\Dropbox\Gig\Homeless\homeless guy t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lex\Dropbox\Gig\Homeless\homeless guy tv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lex\Dropbox\Gig\Homeless\homeless gu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Alex\Dropbox\Gig\Homeless\homeless guy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lex\Dropbox\Gig\Homeless\man in car.jp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lex\Dropbox\Gig\Homeless\ted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Alex\Dropbox\Gig\Homeless\TV me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8:11:43Z</dcterms:created>
  <dc:creator>Alex</dc:creator>
  <dc:description/>
  <dc:language>en-US</dc:language>
  <cp:lastModifiedBy>jake</cp:lastModifiedBy>
  <dcterms:modified xsi:type="dcterms:W3CDTF">2013-10-07T01:34:09Z</dcterms:modified>
  <cp:revision>1</cp:revision>
  <dc:subject/>
  <dc:title>Slide 1</dc:title>
</cp:coreProperties>
</file>